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63D86-2CAB-4439-BE1E-F4B0512EC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C3574-E08E-42BD-A54F-5256620A0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08E6C-C344-4185-8110-CFA8C335E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70857-C2B1-41E9-A0AD-AE053D3A0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4AC21-63C3-4DC1-9096-6E1BF5187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38AEC-D7D5-4016-A117-8902703D4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F42AE-70C1-4F22-9913-1CEA98D0E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C1486-FD09-4FCD-BD64-379FA93AF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4E6F4-7788-4568-BCE7-FC8841A9C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CE721-D6A6-4C6B-9ACF-DC3328E2F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56FD5-EFE7-4C02-AB5F-FFDF3DF5C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52823-660B-4FDD-8E07-D168AAFC3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2A989-EA7F-41BE-B687-EEC5F4FF797C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46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대학교병원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80520" y="4436640"/>
            <a:ext cx="8533080" cy="186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생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김은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혜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기간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8.12.29 ~ 09.02.20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교 통 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치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광역시 서구 구덕로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5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하철 이용시 편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 지하철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선 토성동역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번 출구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 내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화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머리망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블라우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카라있는 면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초기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퇴근시 정장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후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편안한 복장으로 출퇴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말 휴무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5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+</a:t>
            </a:r>
            <a:r>
              <a:rPr b="1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α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원 식당에서 해결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권구입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,5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물리치료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장님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실장님 외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5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8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SOAP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노트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주일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씩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첫 주 제외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약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에 한번 걷어서 검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과제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논문 번역 발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실습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8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실습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을 접할 수 있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직접 환자를  다룰 수 있는 기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밥이 비싸고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이 좁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Windows XP</cp:lastModifiedBy>
  <dcterms:modified xsi:type="dcterms:W3CDTF">2009-04-09T08:11:46Z</dcterms:modified>
  <cp:revision>12</cp:revision>
  <dc:subject/>
  <dc:title>영남대학교의료원</dc:title>
</cp:coreProperties>
</file>